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5.png" ContentType="image/png"/>
  <Override PartName="/ppt/media/image22.gif" ContentType="image/gif"/>
  <Override PartName="/ppt/media/image3.png" ContentType="image/png"/>
  <Override PartName="/ppt/media/image26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0B5-AC1F-4571-B65F-8C826715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5C6-9B9A-4DA5-A591-15CDFA3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CE9-3C2E-4E55-885F-5CA7DE7E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2F-D7E0-444F-AC13-AB398DB1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45A-B44E-4699-AC04-D0E68E0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DD20-FA2D-4272-8D6B-433C293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BFA2-F472-493F-AB59-273A8D3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F5C2-D344-4C3B-954F-DF5F55C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4AF7-4BEB-43EE-9412-20F4064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FD34-D34A-4906-B068-2F704EA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3AD-4242-483A-95A6-7592731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4F0-CD78-4345-8AD2-793557F0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93CD-83DB-429C-9592-86BF67AA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B721-2B2B-4655-86BC-41FF3E32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6408-90B0-4BFC-BD0E-F64234B3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2282-E3D0-424D-82ED-5C41ED67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4480-598D-47FE-A07A-9A0423B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AEE-AFDB-48D5-B9BA-5C023DE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E59-6E0D-45C3-871F-3B55AA8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9FF-492B-4C46-BBC1-F0DA2D3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ACB-DF7A-4B77-A903-F3206DEF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F15-CE2E-48DA-A02E-AF6E642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3E8-7A7F-462F-B01A-63788AA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02B-5ABA-4D4B-A6C1-6F9FA8D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64E7-7C47-466B-B57D-8E7ACEA00FC2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7457-D4A3-462A-B614-B7F685B00E5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Der Jahreskr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Przygotowała: Benedykta Kurze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68360" y="836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Handwriting"/>
              </a:rPr>
              <a:t>Im Augu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2604960" cy="2447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84360" y="508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5. August - Kräuterbuschelta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7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900"/>
                            </p:stCondLst>
                            <p:childTnLst>
                              <p:par>
                                <p:cTn id="2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43280" y="9079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Septe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2503440" cy="237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00360" y="5157720"/>
            <a:ext cx="47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522936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ptember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- Sichelhenk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00360" y="9079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Okto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2448000" cy="244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24000" y="4797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3. Oktober- Tag der Einhei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3. Oktober – Welttierschutzta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Erntedankfe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8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3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3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3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9079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Nove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08360" y="1989000"/>
            <a:ext cx="2519280" cy="216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63640" y="4869000"/>
            <a:ext cx="70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November - Allerheiligen und Allerseel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5661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11. November – Martinsta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4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56000" y="836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Deze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252072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411280" y="4653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Dezember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- Barbara-Tag</a:t>
            </a:r>
            <a:r>
              <a:rPr b="0" lang="pl-P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530064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5. Dezember – Nikolausta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595008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24. Dezember - Weihnacht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9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4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4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40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8000" y="692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Lucida Handwriting"/>
              </a:rPr>
              <a:t>Zusammenfassu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341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6699"/>
                </a:solidFill>
                <a:latin typeface="Arial"/>
              </a:rPr>
              <a:t>Jetzt vergleichen wir. Wann feiert man was in Deutschland und wann in Polen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8000" y="2349360"/>
          <a:ext cx="6336000" cy="4354560"/>
        </p:xfrm>
        <a:graphic>
          <a:graphicData uri="http://schemas.openxmlformats.org/drawingml/2006/table">
            <a:tbl>
              <a:tblPr/>
              <a:tblGrid>
                <a:gridCol w="2113200"/>
                <a:gridCol w="2109600"/>
                <a:gridCol w="211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cc0000"/>
                          </a:solidFill>
                          <a:latin typeface="Lucida Handwriting"/>
                        </a:rPr>
                        <a:t>Mona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cc0000"/>
                          </a:solidFill>
                          <a:latin typeface="Lucida Handwriting"/>
                        </a:rPr>
                        <a:t>Polen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cc0000"/>
                          </a:solidFill>
                          <a:latin typeface="Lucida Handwriting"/>
                        </a:rPr>
                        <a:t>Deutschlan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Janua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Februa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ä</a:t>
                      </a: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rz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April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Ma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Jun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Jul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Oktobe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333333"/>
                          </a:solidFill>
                          <a:latin typeface="Lucida Handwriting"/>
                        </a:rPr>
                        <a:t>Dezembe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4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2881440" cy="194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97164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050920" y="4869000"/>
            <a:ext cx="1266840" cy="95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451640" y="1628640"/>
            <a:ext cx="1297080" cy="1227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588000" y="465300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492360" y="692280"/>
            <a:ext cx="3210120" cy="48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4859280" y="1484280"/>
            <a:ext cx="1368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924360" y="5445000"/>
            <a:ext cx="1655640" cy="1103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7308720" y="3333600"/>
            <a:ext cx="1440000" cy="960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1763640" y="3141720"/>
            <a:ext cx="136044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990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Lucida Handwriting"/>
              </a:rPr>
              <a:t>Feste durch das Jah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981080" y="4705200"/>
            <a:ext cx="2210040" cy="164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91320" y="4711680"/>
            <a:ext cx="228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35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85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35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85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57600" y="685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Janu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Januar – Neujah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6019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6. Januar – Sternsinger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/Drei K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  <a:ea typeface="Arial"/>
              </a:rPr>
              <a:t>ö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ni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2514600" cy="186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68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Febru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5. Februar - das Brotfest der Heiligen Agatha 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Verkleiden - Fasching, Fastnacht, Karneval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87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2. Februar - Petertag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75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175"/>
                            </p:stCondLst>
                            <p:childTnLst>
                              <p:par>
                                <p:cTn id="6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25"/>
                            </p:stCondLst>
                            <p:childTnLst>
                              <p:par>
                                <p:cTn id="6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450"/>
                            </p:stCondLst>
                            <p:childTnLst>
                              <p:par>
                                <p:cTn id="7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2514600" cy="225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Mä</a:t>
            </a:r>
            <a:r>
              <a:rPr b="0" lang="pl-PL" sz="24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0. März - Frühlingsanfang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50"/>
                            </p:stCondLst>
                            <p:childTnLst>
                              <p:par>
                                <p:cTn id="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40360" y="90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Apri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2514600" cy="237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92360" y="50846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0. April - Baumta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25"/>
                            </p:stCondLst>
                            <p:childTnLst>
                              <p:par>
                                <p:cTn id="11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2514600" cy="2149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57600" y="685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Handwriting"/>
              </a:rPr>
              <a:t>Im  Ma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4581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 Mai - Walpurgisnacht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5157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Mutterta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73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Pfingst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75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75"/>
                            </p:stCondLst>
                            <p:childTnLst>
                              <p:par>
                                <p:cTn id="13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375"/>
                            </p:stCondLst>
                            <p:childTnLst>
                              <p:par>
                                <p:cTn id="13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50"/>
                            </p:stCondLst>
                            <p:childTnLst>
                              <p:par>
                                <p:cTn id="14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2514600" cy="186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66880" y="685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Jun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29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ronleichn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941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6. Juni - Tag der Umwelt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5661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21. Juni Sommersonnenwen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95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95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950"/>
                            </p:stCondLst>
                            <p:childTnLst>
                              <p:par>
                                <p:cTn id="1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95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79640" y="69228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9079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Lucida Handwriting"/>
              </a:rPr>
              <a:t>Im Jul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95640" y="472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4. Juni - Johanni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589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chulanfang - Gregorius-Tag</a:t>
            </a:r>
            <a:r>
              <a:rPr b="0" lang="pl-P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5:25:08Z</dcterms:created>
  <dc:creator>Piotrek</dc:creator>
  <dc:description/>
  <dc:language>en-US</dc:language>
  <cp:lastModifiedBy>Administrator</cp:lastModifiedBy>
  <dcterms:modified xsi:type="dcterms:W3CDTF">2003-01-17T11:24:47Z</dcterms:modified>
  <cp:revision>3</cp:revision>
  <dc:subject/>
  <dc:title>Der Jahreskreis</dc:title>
</cp:coreProperties>
</file>